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2.jpeg" ContentType="image/jpeg"/>
  <Override PartName="/ppt/media/image19.png" ContentType="image/png"/>
  <Override PartName="/ppt/media/image20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46.jpeg" ContentType="image/jpeg"/>
  <Override PartName="/ppt/media/image63.jpeg" ContentType="image/jpeg"/>
  <Override PartName="/ppt/media/image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25.jpeg" ContentType="image/jpeg"/>
  <Override PartName="/ppt/media/image65.png" ContentType="image/png"/>
  <Override PartName="/ppt/media/image21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1F4-C224-4E97-94AA-276C587B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885-9BDA-4676-9FF0-E50F68FC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D12-FD70-4DDD-8DE5-2AA06DD8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042-6749-490E-8E5F-6E860CB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FEF-B967-4615-95BE-AF3B0D74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B3B-36BE-441C-A1C0-F594C146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98E-6582-4D8E-8E13-9D80DA61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197-90AC-424D-BB94-0DF45506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25B-0BA8-4552-8DA9-418EDAA4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1F4-034E-4E95-9842-D9CA5990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874-4203-4EF9-A802-CB6A3E7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582-112E-4BDC-A94F-FA531C6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C6F-286B-4B76-A18C-A4C6D5806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95;&#1072;&#1089;&#1099;/&#1089;&#1090;&#1086;&#1091;&#1085;&#1093;&#1077;&#1085;&#1076;&#1078;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&#1095;&#1072;&#1089;&#1099;/0033-033-Nastolnye-starinnye-italjanskie-chasy-15-vek%5B1%5D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hyperlink" Target="http://copypast.ru/uploads/posts/thumbs/1274517508_1d7678dd0f32.jpg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2/dara-tata.7/0_118a1_11f2d055_XL" TargetMode="External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351000"/>
            <a:ext cx="8496000" cy="617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47640" y="2317680"/>
            <a:ext cx="29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щи на в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рем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1458400">
            <a:off x="4794480" y="1628280"/>
            <a:ext cx="27291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лес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е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че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асы              (со стрелкам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история колеса"/>
          <p:cNvPicPr/>
          <p:nvPr/>
        </p:nvPicPr>
        <p:blipFill>
          <a:blip r:embed="rId2"/>
          <a:srcRect l="0" t="54482" r="48602" b="0"/>
          <a:stretch/>
        </p:blipFill>
        <p:spPr>
          <a:xfrm>
            <a:off x="4859280" y="3500280"/>
            <a:ext cx="2017800" cy="178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история колеса"/>
          <p:cNvPicPr/>
          <p:nvPr/>
        </p:nvPicPr>
        <p:blipFill>
          <a:blip r:embed="rId3"/>
          <a:srcRect l="0" t="0" r="50144" b="49735"/>
          <a:stretch/>
        </p:blipFill>
        <p:spPr>
          <a:xfrm>
            <a:off x="755640" y="3573360"/>
            <a:ext cx="1758960" cy="177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история колеса"/>
          <p:cNvPicPr/>
          <p:nvPr/>
        </p:nvPicPr>
        <p:blipFill>
          <a:blip r:embed="rId4"/>
          <a:srcRect l="51413" t="51413" r="0" b="0"/>
          <a:stretch/>
        </p:blipFill>
        <p:spPr>
          <a:xfrm>
            <a:off x="6948360" y="35020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история колеса"/>
          <p:cNvPicPr/>
          <p:nvPr/>
        </p:nvPicPr>
        <p:blipFill>
          <a:blip r:embed="rId5"/>
          <a:srcRect l="48405" t="0" r="0" b="51610"/>
          <a:stretch/>
        </p:blipFill>
        <p:spPr>
          <a:xfrm>
            <a:off x="2771640" y="3500280"/>
            <a:ext cx="1943280" cy="182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692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о если проследить многовековую историю колеса мы видим, что не сильно оно измен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404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История карандаша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короче, чем у колеса.   Карандаш это  инструмент в виде стержня из пишущего материала (угля, графита, сухих красок), который вставлен в оправу. Применяется карандаш для письма, черчения и рисования. Карандаши бывают простые и цвет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13668" b="0"/>
          <a:stretch/>
        </p:blipFill>
        <p:spPr>
          <a:xfrm>
            <a:off x="1403280" y="3429000"/>
            <a:ext cx="2695680" cy="285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d4727f25.jpg"/>
          <p:cNvPicPr/>
          <p:nvPr/>
        </p:nvPicPr>
        <p:blipFill>
          <a:blip r:embed="rId3"/>
          <a:stretch/>
        </p:blipFill>
        <p:spPr>
          <a:xfrm>
            <a:off x="4427640" y="345744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4762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первые карандаш из графита встречается в трактате о минералах, написанном в 1565 г. Графит кусками добывали как руду, распиливали на палочки и вставляли в трубки из дерева или трост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e9f083b6.jpg"/>
          <p:cNvPicPr/>
          <p:nvPr/>
        </p:nvPicPr>
        <p:blipFill>
          <a:blip r:embed="rId2"/>
          <a:stretch/>
        </p:blipFill>
        <p:spPr>
          <a:xfrm>
            <a:off x="2340000" y="2789280"/>
            <a:ext cx="46814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40464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мещать стержни из графита в деревянную оболочку предложил французский химик Николя Конте в XVIII веке – это помогло сэкономить графит. И оказалось, что такой карандаш пишет даже лучш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2590920"/>
            <a:ext cx="54723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40464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конце XIX века карандаш стал шестигранным, чтоб не скатывался со стола. А чуть позже в Америке для экономии древесины появился карандаш – механичес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3ac12225.jpg"/>
          <p:cNvPicPr/>
          <p:nvPr/>
        </p:nvPicPr>
        <p:blipFill>
          <a:blip r:embed="rId2"/>
          <a:stretch/>
        </p:blipFill>
        <p:spPr>
          <a:xfrm>
            <a:off x="1258920" y="227664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940360" y="1773360"/>
            <a:ext cx="19465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549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озможно скоро человечество разучится писать. Компьютер подтверждает эту грустную мысль. Что тут поделаешь? Жизнь продол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о невозможно представить, чтобы человечество перестало рисовать. Ребенок начинает рисовать куда раньше, чем писать. «Каля-маля» вечно, как карандаш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56000" y="3213000"/>
            <a:ext cx="40528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476280"/>
            <a:ext cx="77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 происхождении свечи мы узнали, что она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изобретена древними египтянами. Они использовали свечи и факелы,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деланные из тростника, вымоченного в расплавленном жире.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о у свечек древних египтян не было фитиля, как в свечках нашего времени. Они появились позж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359424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Римляне изобрели свечку с фитилем и использовали ее для передвижения в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темноте и освещения домов и храм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24544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4360" y="47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ак и египтяне, римляне использовали говяжий и бараний жир для изготовления свечей. Хлопковые фитили обмакивали в сало и подвешивали. Охлаждали и снова окунали, пока вокруг фитиля не нарастет достаточно толстый слой. Получалась маканная свеча. Маканные свечи использовались до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XV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3740400" cy="3016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30844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268280"/>
            <a:ext cx="40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 в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XV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веке один французский изобретатель придумал литейную форму, а вместо жира стал использовать пчелиный воск. Свечи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челиного воска горели дольше и лучше, при этом они меньше дымили и лучше пах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88000" y="909720"/>
            <a:ext cx="3620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620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1850 году был изобретен парафин, из которого делается большинство современных свечей. Парафин получают из нефти и сланца. Парафин добывается легче, чем воск и поэтому стоит дешев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5479" t="0" r="1292" b="0"/>
          <a:stretch/>
        </p:blipFill>
        <p:spPr>
          <a:xfrm>
            <a:off x="4932360" y="2492280"/>
            <a:ext cx="3672000" cy="3529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11280" y="2565360"/>
            <a:ext cx="41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н горит так же ярко, как и воск, не выделяя неприятного резкого запаха, которым обладают жировые свечи. И так мы получили свечу, которая изготавливается и по се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29844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 своей жизни человек изобрел множество вещей, предметов, приборов и приспособлений. Все они совершенствовались по мере возрастающих потребностей людей или отмирали из-за ненад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 своем проекте мы решили рассмотреть историю некоторых предметов, которые практически не изменились по своему устройству и строению за время жития человеческого, а только приобрели новые функции и более совершенный ви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Эти простые Вещи всегда под рукой и без них даже современный человек вряд ли может представить свою жизнь: колесо, карандаш, свеча, расческа, часы со стрел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7960" y="476280"/>
            <a:ext cx="788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1879 году изобретена лампа накаливания. Свечи перестали быть основным источником освещения домов, но и по сей день их популярность не ослабевает. Человек придумал свечке множество примен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24670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вечи хозяйственные и столов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4494" r="0" b="0"/>
          <a:stretch/>
        </p:blipFill>
        <p:spPr>
          <a:xfrm>
            <a:off x="1120680" y="2997360"/>
            <a:ext cx="2766960" cy="33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292720" y="3141720"/>
            <a:ext cx="26719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9079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Интерьерные (долго горящ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4996" t="0" r="0" b="8179"/>
          <a:stretch/>
        </p:blipFill>
        <p:spPr>
          <a:xfrm>
            <a:off x="539640" y="1849320"/>
            <a:ext cx="4896000" cy="3784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6128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692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екора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6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роматизиров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1673280"/>
            <a:ext cx="2533680" cy="4203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6070" t="5815" r="12299" b="0"/>
          <a:stretch/>
        </p:blipFill>
        <p:spPr>
          <a:xfrm>
            <a:off x="3924360" y="1722600"/>
            <a:ext cx="45352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692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Чайные (таблет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668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Церко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174920" cy="363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366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03640" y="981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91280" y="2276640"/>
            <a:ext cx="2865240" cy="381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7094" r="3581" b="0"/>
          <a:stretch/>
        </p:blipFill>
        <p:spPr>
          <a:xfrm>
            <a:off x="826920" y="868320"/>
            <a:ext cx="384192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549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расивые прически, длинные шелковистые волосы! Сейчас можно было об этом и не узнать, если бы человечество не придумало расческу.        Расческа — это очень простое приспособление с «зубьями», которое, проходя через волосы, делает их аккуратными.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Родителем современной расчески является рыбий скел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71640" y="620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ервая расческа – гребень был найден при раскопках на территории Древнего Рима. Это был гребень из кости живот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4584"/>
          <a:stretch/>
        </p:blipFill>
        <p:spPr>
          <a:xfrm>
            <a:off x="2274840" y="2220840"/>
            <a:ext cx="42418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1280" y="62064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Расчески делали из кораллов, черепашьего панциря, слоновой кости, рогов различных животных. Такое жестокое обращение с природой продолжалось до середины XIX 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9315"/>
          <a:stretch/>
        </p:blipFill>
        <p:spPr>
          <a:xfrm>
            <a:off x="611280" y="2565360"/>
            <a:ext cx="420048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76720" y="256536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76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1862 году изобрели пластмассу. Расческа стала доступнее. А главное – сколько было спасено животных. 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шло время, поменялась форма и материал, из которого делаются расчески. Но, как известно, новое – это просто хорошо забытое старо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040" y="2781360"/>
            <a:ext cx="46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Еще древние люди заметили, что лучше всего ухаживают за волосами расчески, выточенные из дерева. Жизнь и тепло дерева передается расческе, а с ней - волосам: они становятся мягкими, эластичными, шелковист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0" t="2648" r="0" b="6248"/>
          <a:stretch/>
        </p:blipFill>
        <p:spPr>
          <a:xfrm>
            <a:off x="5292720" y="3500280"/>
            <a:ext cx="33195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5640" y="404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История часов со стрелками начинается с солнечных календарей. С их помощью в каменном веке определяли наступление времени года и вели календарный счет дням. Один из примеров таких сооружений – Стоунхендж в Англии –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XVI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ек до нашей э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9800" cy="2468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36702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7628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549360"/>
            <a:ext cx="75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История колеса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началась с использования бревен-катков, которые подкладывали под тяжелые гру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Их начали использовать в Древнем Египте при возведении пирами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Колесо"/>
          <p:cNvPicPr/>
          <p:nvPr/>
        </p:nvPicPr>
        <p:blipFill>
          <a:blip r:embed="rId2"/>
          <a:stretch/>
        </p:blipFill>
        <p:spPr>
          <a:xfrm>
            <a:off x="4859280" y="2832120"/>
            <a:ext cx="3384720" cy="304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2897280"/>
            <a:ext cx="3816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пустя еще несколько столетий два кругляка, отрезанных от бревна, соединила ось. И наше колесо приобрело вот такой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4762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дальнейшем люди вбивали колышек посреди ровной площадки. В солнечный день колышек отбрасывал тень на площадку, расчерченную, как циферблат  часов. В течение дня тень двигалась, и по её положению люди определяли время дня. Но в пасмурный день и ночью солнечные часы не рабо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4189" t="2808" r="51717" b="52409"/>
          <a:stretch/>
        </p:blipFill>
        <p:spPr>
          <a:xfrm>
            <a:off x="539640" y="3292560"/>
            <a:ext cx="3961080" cy="3016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3267000"/>
            <a:ext cx="35272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огда такие часы возникли в Египте, они представляли  вертикальный обелиск, гномон, с наземной шкалой, по которой измеряли длину тени.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Эти обелиски ставили у входа в храмы, посвященные богу солнц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252608821_exc2" descr="История часов."/>
          <p:cNvPicPr/>
          <p:nvPr/>
        </p:nvPicPr>
        <p:blipFill>
          <a:blip r:embed="rId2"/>
          <a:srcRect l="0" t="0" r="0" b="8414"/>
          <a:stretch/>
        </p:blipFill>
        <p:spPr>
          <a:xfrm>
            <a:off x="4906800" y="2349360"/>
            <a:ext cx="3697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-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404640"/>
            <a:ext cx="820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Часы совершенствовались – их стали изготовлять из камня, металла, дерева. Размер их был доведен до карманного. Однако, у солнечных часов был главный недостаток - они зависели от погоды, а при облачном небе или ночью вообще не работа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3825720" cy="3127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34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33336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Times New Roman"/>
              </a:rPr>
              <a:t>Тогда человек изобрел водяные часы – Клепсидра. Металлический или глиняный сосуд наполняли водой, которая медленно, по капле, вытекала, уровень ее понижался, и по делениям на сосуде определяли который час. Не менее распространенными в Европе и Китае были так называемые «огненные» часы — в виде свечей с нанесенными на них делениям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59819" t="0" r="0" b="0"/>
          <a:stretch/>
        </p:blipFill>
        <p:spPr>
          <a:xfrm>
            <a:off x="5413320" y="2844720"/>
            <a:ext cx="2975040" cy="3608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331776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9640" y="33336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Революцию в определении времени совершили механические часы. Первые часы были созданы в 578 году в Визант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онструкция первых механических часов была простой – гири на веревке, намотанной на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вал, опускались и двигали стрелки с помощью зубчатых колес. Сам часовой механизм был очень большим, поэтому первые часы помещали на башня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4284720" cy="2338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0193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4360" y="26028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1510 году немецкий механик Генлайн приспособил к часовому механизму  пружину. В 1657 году голландский ученый Гюйгенс изучив свойства маятника, изготовил часы с маятни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8402" t="11202" r="58012" b="32777"/>
          <a:stretch/>
        </p:blipFill>
        <p:spPr>
          <a:xfrm>
            <a:off x="1332000" y="2492280"/>
            <a:ext cx="2808360" cy="3889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292720" y="2417760"/>
            <a:ext cx="27432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42920" y="76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начала часы были с одной стрелкой. Самая первая минутная стрелка появилась в часах в середине 16 века, а секундная – в 18 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276720" cy="3247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История часов."/>
          <p:cNvPicPr/>
          <p:nvPr/>
        </p:nvPicPr>
        <p:blipFill>
          <a:blip r:embed="rId3"/>
          <a:stretch/>
        </p:blipFill>
        <p:spPr>
          <a:xfrm>
            <a:off x="4788000" y="2421000"/>
            <a:ext cx="33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4360" y="54936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40464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 началу XVIII века часы с заводным механизмом были уже похожи на современные. Они уже были в каждом доме, да не одни. Деловые мужчины носили карманные часы на цепочке, а светские дамы предпочитали наручные - изящные, порой украшенные драгоценными камнями. И так по сей день человечество следит за временем, придумывая различные ча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9500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rcRect l="5256" t="9816" r="46461" b="42593"/>
          <a:stretch/>
        </p:blipFill>
        <p:spPr>
          <a:xfrm>
            <a:off x="4932360" y="3716280"/>
            <a:ext cx="3456000" cy="2100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Картинка 5 из 64000">
            <a:hlinkClick r:id="rId3"/>
          </p:cNvPr>
          <p:cNvPicPr/>
          <p:nvPr/>
        </p:nvPicPr>
        <p:blipFill>
          <a:blip r:embed="rId4"/>
          <a:srcRect l="0" t="13145" r="0" b="0"/>
          <a:stretch/>
        </p:blipFill>
        <p:spPr>
          <a:xfrm>
            <a:off x="684360" y="3716280"/>
            <a:ext cx="3671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40464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арманные, наручные                                    (мужские, женские, детск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580000" y="3860640"/>
            <a:ext cx="2533680" cy="2737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187280" y="1484280"/>
            <a:ext cx="2592720" cy="2378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3456000" cy="2060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116000" y="3933720"/>
            <a:ext cx="2584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5256" t="19601" r="67350" b="42593"/>
          <a:stretch/>
        </p:blipFill>
        <p:spPr>
          <a:xfrm>
            <a:off x="1403280" y="39337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47248" t="20987" r="22315" b="6205"/>
          <a:stretch/>
        </p:blipFill>
        <p:spPr>
          <a:xfrm>
            <a:off x="4859280" y="1700280"/>
            <a:ext cx="2603520" cy="4394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rcRect l="47248" t="30803" r="7614" b="7591"/>
          <a:stretch/>
        </p:blipFill>
        <p:spPr>
          <a:xfrm>
            <a:off x="1332000" y="1628640"/>
            <a:ext cx="2251080" cy="2303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3200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льные, настенные, напо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76500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же в середине третьего тысячелетия до нашей эры деревянное колесо оборачивали в кожу, а еще спустя век в обод стали забивать медные гвозди острием наружу - для лучшего сцепления с землей. Колеса еще сплошные, но уже не вырезанные из цельного ствола, а составные, сколоченные из трех ча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колесо III тыс. до н. э., найденное при раскопках месопотамского города-государ­ства Ур"/>
          <p:cNvPicPr/>
          <p:nvPr/>
        </p:nvPicPr>
        <p:blipFill>
          <a:blip r:embed="rId2"/>
          <a:stretch/>
        </p:blipFill>
        <p:spPr>
          <a:xfrm>
            <a:off x="5411880" y="1989000"/>
            <a:ext cx="2766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63640" y="404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341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двод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341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роцеду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1341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о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2637000"/>
            <a:ext cx="2444760" cy="2444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1838160" cy="2733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916360" y="2349360"/>
            <a:ext cx="30906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71640" y="558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Человеку часы необходимы. Так много нужно успеть и так важно не потерять врем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Картинка 8 из 93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692280"/>
            <a:ext cx="608472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050920" y="2265480"/>
            <a:ext cx="374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3 «В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О №14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ева Наст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620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 то же время в Ливии появляется первая повозка. Об этом говорят наскальные рисунки, найденные историками. Как мы видим здесь уже колесо со спи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наскальный рисунок повозки II тыс. до н.э.,"/>
          <p:cNvPicPr/>
          <p:nvPr/>
        </p:nvPicPr>
        <p:blipFill>
          <a:blip r:embed="rId2"/>
          <a:stretch/>
        </p:blipFill>
        <p:spPr>
          <a:xfrm>
            <a:off x="2124000" y="2556000"/>
            <a:ext cx="4753080" cy="38257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476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олесо продвигалось из Малой Азии на Балканы, через степи в Венгрию и далее. В любом случае, его победоносное шествие было обеспечено военным успехом колесниц. К 2000 году до нашей эры колесо доехало до Голландии и уже имело спицы и об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32000" y="2917800"/>
            <a:ext cx="662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9810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зже люди не только передвигались с помощью колес, но приспособили колесо в хозяйстве и в производстве: для орошения полей, для вращения станков и насо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Водяное колесо"/>
          <p:cNvPicPr/>
          <p:nvPr/>
        </p:nvPicPr>
        <p:blipFill>
          <a:blip r:embed="rId2"/>
          <a:stretch/>
        </p:blipFill>
        <p:spPr>
          <a:xfrm>
            <a:off x="4788000" y="698400"/>
            <a:ext cx="37623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404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ходил к концу XIX век. В США, в Чикаго, планировалась Всемирная промышленная выставка. Самым оригинальным был признан проект инженера Джорджа Ферриса.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ект предусматривал сооружение гигантского колеса с множеством кабинок на ободе. Вращаясь, оно поднимало бы кабинки с пассажирами, открывая им панораму выставки и ее окрест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Лондонский глаз (колесо обозрения)"/>
          <p:cNvPicPr/>
          <p:nvPr/>
        </p:nvPicPr>
        <p:blipFill>
          <a:blip r:embed="rId2"/>
          <a:stretch/>
        </p:blipFill>
        <p:spPr>
          <a:xfrm>
            <a:off x="3281400" y="3484440"/>
            <a:ext cx="49626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476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олесо человек научился использовать по разному – этому свидетельствует исто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2224080" cy="3335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816360" cy="26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88000" y="1557360"/>
            <a:ext cx="3601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7:50:24Z</dcterms:created>
  <dc:creator>Пользователь</dc:creator>
  <dc:description/>
  <dc:language>en-US</dc:language>
  <cp:lastModifiedBy>Пользователь</cp:lastModifiedBy>
  <dcterms:modified xsi:type="dcterms:W3CDTF">2011-01-20T23:26:58Z</dcterms:modified>
  <cp:revision>29</cp:revision>
  <dc:subject/>
  <dc:title>PowerPoint Presentation</dc:title>
</cp:coreProperties>
</file>